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176-EA43-4F9E-B42F-7968ECE0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EA4-AAE3-4338-9DF6-F0507950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A9E-7F6D-4551-BA15-3C4F22D0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06D-7FE1-4564-82D6-795BDBFF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159B-88B2-4B0D-9688-BB8F11F1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34CC-5481-4C31-BBC4-932CB9C5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5D6E-180B-4953-85B5-AE8635DD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A011-1418-477A-9913-41095AC0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A535-264A-469C-A2A8-F26C9FEB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B80D-B213-4B57-B8E5-E100B624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386D-F274-4D2A-A291-4284FF87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22A-CB00-4A30-9328-43EF0414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503A-3F09-4DE8-829A-6BF82C6B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F064-FE02-41B1-8108-935AD65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83F2-FB02-4C08-A4DF-65993DE9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AB46-F35F-4A08-B5F3-D8F10224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0A07-1600-4F11-8319-58C4566C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2C5-919F-471D-9359-507CA208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EA6-F2DC-4FDB-9E74-AB2C4065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2B4-D5BB-4288-B12D-18F73FED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3A5-7CC8-4171-9AC8-D80B33F0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DA2-7043-48AA-8D98-F1544F7A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095-65AE-4914-BB68-0E0D3863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F94-D2CE-4EA2-BAE3-713253E9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26C-BF22-470B-BB26-445AD814D2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8F54-E772-408C-86FD-7668723D8E59}" type="slidenum">
              <a:rPr b="0" lang="en-US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 Content and Access Dynamics of a Busy Web Server: Findings and Implications</a:t>
            </a: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733920"/>
            <a:ext cx="4419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nkata N. Padmanab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icrosof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373392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ili Q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rnell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10552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COMM’2000, Stockholm, 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gust 30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3021-D7DE-4B73-9609-ECD3F74A30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DF of Modification Interval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14400" y="1905120"/>
          <a:ext cx="70596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05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836640" y="6095880"/>
            <a:ext cx="7331400" cy="459720"/>
          </a:xfrm>
          <a:prstGeom prst="rect">
            <a:avLst/>
          </a:prstGeom>
          <a:noFill/>
          <a:ln w="63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tinct knees in the CDF at one hour and on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472-A141-4F06-8534-5518C5BC48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dictive Power of Modification Histor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as significant bearing on cache consistency control algorithms, such as adaptive TT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ediction algorithm stud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imate the future modification interval as the mean of the past x sam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erformance metr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lation coefficient between the predicted and actual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ror in predi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B05-4855-49DC-9C58-8D94329BB3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rrelation Coefficien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5638680"/>
            <a:ext cx="8076960" cy="6098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e4a8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A larger averaging window size helps to predict the future modification interval up to a certain poin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00200" y="1884240"/>
          <a:ext cx="5638680" cy="36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84240"/>
                    <a:ext cx="5638680" cy="36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8C8-99A7-4EF2-BD13-6DC9F6E11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rror in Predic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676520"/>
          <a:ext cx="6167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6167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791320" y="2438280"/>
            <a:ext cx="312408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veraging window: 16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ean error: 22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edian error: 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7640" y="5334120"/>
            <a:ext cx="67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centage error in predicting file modificatio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760" y="5715000"/>
            <a:ext cx="8849160" cy="7038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odification history yields a rough predictor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ed alternative mechanism (e.g. call-back based invalidation) as 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92E-9F26-40E7-B49C-501DE228A3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xtent of Change Upon File Modification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mpute delta using vdelta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99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etri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s |vdelta(v1,v2)|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|v1|+|v2|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99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77%  case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96%  case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vdelta" descr=""/>
          <p:cNvPicPr/>
          <p:nvPr/>
        </p:nvPicPr>
        <p:blipFill>
          <a:blip r:embed="rId2"/>
          <a:stretch/>
        </p:blipFill>
        <p:spPr>
          <a:xfrm>
            <a:off x="304920" y="2171880"/>
            <a:ext cx="4800600" cy="3079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43000" y="5638680"/>
            <a:ext cx="7162920" cy="685800"/>
          </a:xfrm>
          <a:prstGeom prst="rect">
            <a:avLst/>
          </a:prstGeom>
          <a:noFill/>
          <a:ln w="63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Modification between successive versions is sm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Delta encoding can be very use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505320"/>
            <a:ext cx="2286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3809880"/>
            <a:ext cx="1295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D46-580D-4886-AA14-908B179741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ccess Dynamic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rrelation between content and access dynam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act of age on file popula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uses of first-time mi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patial locality in client acc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main membership is significant except when there is a “hot” event of global interes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emporal stability of file popul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t of popular documents mostly remains stable over a timescale of day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stribution of file popul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ipf-like distribution but with a much larg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an at prox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C12-443D-42D7-A791-B8BD121FDF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mpact of Age on Popularit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5715000"/>
            <a:ext cx="8305560" cy="762120"/>
          </a:xfrm>
          <a:prstGeom prst="rect">
            <a:avLst/>
          </a:prstGeom>
          <a:noFill/>
          <a:ln w="63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most documen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cesses are concentrated soon after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1871640"/>
          <a:ext cx="7543800" cy="36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71640"/>
                    <a:ext cx="75438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AD0-6BFF-42B1-AAC4-FBD13BFEB5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uses of First-time Miss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p to 40% of cache misses are due to 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me misses [VDA+99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2997360"/>
          <a:ext cx="7619760" cy="2565360"/>
        </p:xfrm>
        <a:graphic>
          <a:graphicData uri="http://schemas.openxmlformats.org/drawingml/2006/table">
            <a:tbl>
              <a:tblPr/>
              <a:tblGrid>
                <a:gridCol w="1981080"/>
                <a:gridCol w="2895480"/>
                <a:gridCol w="2743200"/>
              </a:tblGrid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ew files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ld files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ct. 8, 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3.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76.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ct. 9, 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3.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86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ct. 10,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3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86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ct. 11,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8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8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380880" y="5715000"/>
            <a:ext cx="8458200" cy="762120"/>
          </a:xfrm>
          <a:prstGeom prst="rect">
            <a:avLst/>
          </a:prstGeom>
          <a:noFill/>
          <a:ln w="63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ccesses to old documents account for most first-time misses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hard to anticipate such accesses &amp; eliminate first-time mi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2E1-520A-4F1F-819E-9C3CF61242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mporal Stability of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le Popularity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2520" y="175248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Methodolog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onsider the traces from a pair of day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Pick the top n popular documents from each day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ompute the overlap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00"/>
                </a:solidFill>
                <a:latin typeface="Comic Sans MS"/>
              </a:rPr>
              <a:t>One day apar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:significant overlap (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80%)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cc"/>
                </a:solidFill>
                <a:latin typeface="Comic Sans MS"/>
              </a:rPr>
              <a:t>Two months apar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: smaller overlap (20-80%)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omic Sans MS"/>
              </a:rPr>
              <a:t>Ten months apar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: very small overlap (mostly below 20%)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4920" y="2286000"/>
          <a:ext cx="472428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47242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066680" y="6019920"/>
            <a:ext cx="7239240" cy="398880"/>
          </a:xfrm>
          <a:prstGeom prst="rect">
            <a:avLst/>
          </a:prstGeom>
          <a:noFill/>
          <a:ln w="63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set of popular documents remains stable for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B86-D37B-4B9B-8241-4225B0DE39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patial Locality i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ent Access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2057400"/>
          <a:ext cx="4343400" cy="329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4343400" cy="32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901080" y="5575320"/>
            <a:ext cx="7582680" cy="825480"/>
          </a:xfrm>
          <a:prstGeom prst="rect">
            <a:avLst/>
          </a:prstGeom>
          <a:noFill/>
          <a:ln w="63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main membership is signific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cept when there is a “hot” event of global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648320" y="2036880"/>
          <a:ext cx="4143240" cy="329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036880"/>
                    <a:ext cx="4143240" cy="32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E81-521B-4AB2-84B9-F0FE9E7BFD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ntent Dynam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ccess Dynam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mmary &amp; Impl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508-2AC6-4DFF-8052-1379ADF62C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Applicability of Zipf-law to Web reques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Web requests follow Zipf-like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 frequenc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where i is  a document’s ran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value o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ch large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 MSNBC tr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.4 – 1.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MSNBC tr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maller or close to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proxy tr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lose to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small departmental server logs [ABC+96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est when there is a hot ev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hits_count_slide_server-alpha1.4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489480" cy="202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4876920" y="1828800"/>
          <a:ext cx="3200400" cy="210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828800"/>
                    <a:ext cx="320040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3E1-09F1-4A54-8E02-CF9F03618D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mpact of larger 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2880" y="1865160"/>
            <a:ext cx="392616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ccesses in MSNBC traces  are much more concentr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0%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accesses are accounted b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-4%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iles in MSNBC tr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6%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iles in proxy traces (Microsoft proxies and the proxies studied in [BCF+99]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0%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iles in small departmental server logs reported in [AW96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5791320"/>
            <a:ext cx="8305920" cy="703800"/>
          </a:xfrm>
          <a:prstGeom prst="rect">
            <a:avLst/>
          </a:prstGeom>
          <a:noFill/>
          <a:ln w="63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pular news sites like MSNBC see much more concentrated accesses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Reverse caching and replication can be very effec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2314440"/>
          <a:ext cx="4611960" cy="29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14440"/>
                    <a:ext cx="461196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451-4614-4A16-A494-1CFA30435B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ummary of Results &amp; Implication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2233440"/>
          <a:ext cx="7696080" cy="3557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a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mpl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ast modification history, when averaged over a sufficiently large window, yields a rough predi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Guide for setting TTL, but need alternative mechanism (e.g. callback-based invalidation) as back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odification between successive versions is 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lta encoding can be very use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570-B3CF-4ADC-A842-F68D29AF67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ummary of Results &amp; Implications (Cont.)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82600" y="2057400"/>
          <a:ext cx="7772400" cy="4308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a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mpl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e set of popular documents remains stable over a timescale of day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refetch/push previously popular files that have undergone modif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ile popularity follows Zipf-like distribution, but with a much larger 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than at prox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tential of reverse caching &amp; repl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ccesses to old documents account for most first-time access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rd to anticipate such accesses, and eliminate first-time miss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9E6-DAD3-4304-AEA8-1CFA4722ED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udy data sets from other large server si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types of Web servers may have very different work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re studies such as ours will be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velop efficient cache consistency algorith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1F8-83AD-4B3D-AF90-5A29C636CC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cknowledgemen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ason Bender and Ian Marrio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rich Nah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iem-Phong 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mon Cole, Susan Dumais, Niccole Golden, Chris Haslam, Eric Horvitz, Geoff Voel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onymous review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CE8-C08A-499D-BD43-1C364DBC05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lid understanding of Web workload is critical for designing robust and scalabl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ach of the Web components provides a unique perspective on the functioning of the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72072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server" descr=""/>
          <p:cNvPicPr/>
          <p:nvPr/>
        </p:nvPicPr>
        <p:blipFill>
          <a:blip r:embed="rId2"/>
          <a:stretch/>
        </p:blipFill>
        <p:spPr>
          <a:xfrm>
            <a:off x="6026040" y="3429000"/>
            <a:ext cx="52704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13200" y="3886200"/>
            <a:ext cx="2666880" cy="1752480"/>
          </a:xfrm>
          <a:prstGeom prst="cloudCallout">
            <a:avLst>
              <a:gd name="adj1" fmla="val -26310"/>
              <a:gd name="adj2" fmla="val 9148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057400" y="4419720"/>
            <a:ext cx="720720" cy="761760"/>
          </a:xfrm>
          <a:prstGeom prst="rect">
            <a:avLst/>
          </a:prstGeom>
          <a:ln w="0">
            <a:noFill/>
          </a:ln>
        </p:spPr>
      </p:pic>
      <p:pic>
        <p:nvPicPr>
          <p:cNvPr id="111" name="server" descr=""/>
          <p:cNvPicPr/>
          <p:nvPr/>
        </p:nvPicPr>
        <p:blipFill>
          <a:blip r:embed="rId4"/>
          <a:stretch/>
        </p:blipFill>
        <p:spPr>
          <a:xfrm>
            <a:off x="5950080" y="4343400"/>
            <a:ext cx="52704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server" descr=""/>
          <p:cNvPicPr/>
          <p:nvPr/>
        </p:nvPicPr>
        <p:blipFill>
          <a:blip r:embed="rId5"/>
          <a:stretch/>
        </p:blipFill>
        <p:spPr>
          <a:xfrm>
            <a:off x="5978520" y="5257800"/>
            <a:ext cx="498600" cy="76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8480" y="4906800"/>
            <a:ext cx="838080" cy="351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92680" y="5211720"/>
            <a:ext cx="761760" cy="35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70400" y="4145040"/>
            <a:ext cx="838080" cy="350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89160" y="4876920"/>
            <a:ext cx="762120" cy="28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37080" y="4138560"/>
            <a:ext cx="762120" cy="281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679720" y="4724280"/>
            <a:ext cx="304920" cy="180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84600" y="4038480"/>
            <a:ext cx="228600" cy="77148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4600" y="4876920"/>
            <a:ext cx="228600" cy="144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742840" y="4876920"/>
            <a:ext cx="304920" cy="83808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057400" y="5334120"/>
            <a:ext cx="720720" cy="761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5715000" y="3809880"/>
            <a:ext cx="304920" cy="91440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714640" y="4724280"/>
            <a:ext cx="304920" cy="91440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omic Sans MS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95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omic Sans MS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21640" y="4467240"/>
            <a:ext cx="31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842-0AE4-43DA-801F-A8AFA23803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ivation (Cont.)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tinguishing features of our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y MSNBC web s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arge 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news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consistently ranked among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usiest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 sites in the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ent &amp; acc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ynam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The dynamics of file modification and cre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The dynamics of users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E77-107B-4450-B70C-DDEB6506C6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lated Wor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rver-based stu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ABC+96] obser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File popularity follows Zipf’s distribution (</a:t>
            </a:r>
            <a:r>
              <a:rPr b="0" lang="en-US" sz="2000" spc="-1" strike="noStrike">
                <a:solidFill>
                  <a:srgbClr val="339966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99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 1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Temporal locality in file ac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AW96] found 10 invaria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10% files account for 90% ac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MS97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Long latencies are not necessarily due to server over-loading or CGI traffic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AJ99] studied 1998 worldcup tr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Significant volume of cache consistency traff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ED2-60DE-4D41-89B6-019B3A50CF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lated Work (Cont.)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xy workload character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ge popularity follows a Zipf-like distribution, i.e. request frequenc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1/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&lt; 1) [BCF+99]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t rate of proxy caches no more than 50% [DMF97,GB97]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substantial fraction of misses arises from first-time accesses [VDA+99]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gnificance in organizational membership [WVS+99]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ient-based stud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CBC95] and [BBB+98] re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Change in file popularity and temporal loc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023-1B6D-45E6-BBCE-AC8DE8811B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SNBC server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large news s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cluster with 40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5 million accesses a day (HTML content alon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iod studied: Aug. – Oct. 99 &amp; Dec. 17, 98 flash crow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rver lo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access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 Replication System (CRS)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 content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ta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 dynam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dynam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B2A-B440-437A-9AE3-E29C478614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jor Finding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tent dynam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dification history is a rough predict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equent but minimal file modif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cess dynam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t of popular files remains stable for day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omain membership has a significant bearing on client accesses except during a flash crowd of global interes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Zipf-like distribution of file popularity but with a much larger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han at proxi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cesses to old documents account for most first-time miss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hard to anticipate such accesses, and eliminate these first-time mi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1D4-9669-4EDF-AA6C-283433609A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tent Dynamic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eriod studied: 10/1/99 – 10/28/9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DF of modification interv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inct knees in the CDF at one hour and one d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edictive power of modification 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dification history is a rough predictor of future modification interv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tent of change upon file mod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st file modifications are minimal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delta encoding can be very usefu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BB4-761D-42ED-95CC-5C16EA5476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01:28:19Z</dcterms:created>
  <dc:creator>Lili Qiu</dc:creator>
  <dc:description/>
  <dc:language>en-US</dc:language>
  <cp:lastModifiedBy>lqiu</cp:lastModifiedBy>
  <dcterms:modified xsi:type="dcterms:W3CDTF">2000-09-05T22:59:37Z</dcterms:modified>
  <cp:revision>56</cp:revision>
  <dc:subject/>
  <dc:title>The Content and Access Dynamics of a Busy Web Server: Findings and Implications</dc:title>
</cp:coreProperties>
</file>